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28.bin" ContentType="application/vnd.openxmlformats-officedocument.oleObject"/>
  <Override PartName="/ppt/embeddings/oleObject27.bin" ContentType="application/vnd.openxmlformats-officedocument.oleObject"/>
  <Override PartName="/ppt/embeddings/oleObject14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7432000" cy="23774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3B6-57B4-44FB-9259-473FB903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6867360"/>
            <a:ext cx="233172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400" y="14318640"/>
            <a:ext cx="233172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1E3-49DF-4A3D-A700-442CA415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686736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05080" y="686736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1431864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005080" y="1431864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2E7-92C9-40CD-9141-6492AC21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6867360"/>
            <a:ext cx="75078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41040" y="6867360"/>
            <a:ext cx="75078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824680" y="6867360"/>
            <a:ext cx="75078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400" y="14318640"/>
            <a:ext cx="75078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941040" y="14318640"/>
            <a:ext cx="75078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824680" y="14318640"/>
            <a:ext cx="75078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2B1-FB54-4356-A8A7-77870115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400" y="6867360"/>
            <a:ext cx="23317200" cy="142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51"/>
              </a:spcBef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B04-88A6-44DB-95A2-CBA94FFC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400" y="6867360"/>
            <a:ext cx="23317200" cy="14265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818-0A73-4FCF-A3E7-A49C49C8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400" y="6867360"/>
            <a:ext cx="11378520" cy="14265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005080" y="6867360"/>
            <a:ext cx="11378520" cy="14265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C57-CFA1-49BF-84A0-F0E2CC52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164-CF2F-4530-AC74-9673D559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2112480"/>
            <a:ext cx="23317200" cy="183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51"/>
              </a:spcBef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11E-6884-4976-843A-C0118499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686736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005080" y="6867360"/>
            <a:ext cx="11378520" cy="14265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400" y="1431864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31B-EFF4-4BA2-B1EA-4188CAA5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6867360"/>
            <a:ext cx="11378520" cy="14265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005080" y="686736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05080" y="1431864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18C-B0C9-435B-BD32-0469E3C9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686736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005080" y="686736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400" y="14318640"/>
            <a:ext cx="233172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432-E24A-4190-803A-48C05FC7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6867360"/>
            <a:ext cx="23317200" cy="14265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marL="1096920" indent="-1096920">
              <a:spcBef>
                <a:spcPts val="2551"/>
              </a:spcBef>
              <a:buClr>
                <a:srgbClr val="000000"/>
              </a:buClr>
              <a:buFont typeface="Times New Roman"/>
              <a:buChar char="•"/>
              <a:tabLst>
                <a:tab algn="l" pos="2925720"/>
                <a:tab algn="l" pos="5851440"/>
                <a:tab algn="l" pos="877716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78160" indent="-914400">
              <a:spcBef>
                <a:spcPts val="2551"/>
              </a:spcBef>
              <a:buClr>
                <a:srgbClr val="000000"/>
              </a:buClr>
              <a:buFont typeface="Times New Roman"/>
              <a:buChar char="–"/>
              <a:tabLst>
                <a:tab algn="l" pos="2925720"/>
                <a:tab algn="l" pos="5851440"/>
                <a:tab algn="l" pos="877716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  <a:p>
            <a:pPr lvl="2" marL="3657600" indent="-731880">
              <a:spcBef>
                <a:spcPts val="2551"/>
              </a:spcBef>
              <a:buClr>
                <a:srgbClr val="000000"/>
              </a:buClr>
              <a:buFont typeface="Times New Roman"/>
              <a:buChar char="•"/>
              <a:tabLst>
                <a:tab algn="l" pos="2925720"/>
                <a:tab algn="l" pos="5851440"/>
                <a:tab algn="l" pos="877716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  <a:p>
            <a:pPr lvl="3" marL="5121360" indent="-731880">
              <a:spcBef>
                <a:spcPts val="2551"/>
              </a:spcBef>
              <a:buClr>
                <a:srgbClr val="000000"/>
              </a:buClr>
              <a:buFont typeface="Times New Roman"/>
              <a:buChar char="–"/>
              <a:tabLst>
                <a:tab algn="l" pos="2925720"/>
                <a:tab algn="l" pos="5851440"/>
                <a:tab algn="l" pos="877716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  <a:p>
            <a:pPr lvl="4" marL="6583320" indent="-731880">
              <a:spcBef>
                <a:spcPts val="2551"/>
              </a:spcBef>
              <a:buClr>
                <a:srgbClr val="000000"/>
              </a:buClr>
              <a:buFont typeface="Times New Roman"/>
              <a:buChar char="»"/>
              <a:tabLst>
                <a:tab algn="l" pos="2925720"/>
                <a:tab algn="l" pos="5851440"/>
                <a:tab algn="l" pos="877716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  <a:p>
            <a:pPr lvl="5" marL="6583320" indent="-731880">
              <a:spcBef>
                <a:spcPts val="2551"/>
              </a:spcBef>
              <a:buClr>
                <a:srgbClr val="000000"/>
              </a:buClr>
              <a:buFont typeface="Times New Roman"/>
              <a:buChar char="»"/>
              <a:tabLst>
                <a:tab algn="l" pos="2925720"/>
                <a:tab algn="l" pos="5851440"/>
                <a:tab algn="l" pos="877716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  <a:p>
            <a:pPr lvl="6" marL="6583320" indent="-731880">
              <a:spcBef>
                <a:spcPts val="2551"/>
              </a:spcBef>
              <a:buClr>
                <a:srgbClr val="000000"/>
              </a:buClr>
              <a:buFont typeface="Times New Roman"/>
              <a:buChar char="»"/>
              <a:tabLst>
                <a:tab algn="l" pos="2925720"/>
                <a:tab algn="l" pos="5851440"/>
                <a:tab algn="l" pos="877716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7040" y="21661200"/>
            <a:ext cx="5715000" cy="158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Autofit/>
          </a:bodyPr>
          <a:lstStyle>
            <a:lvl1pPr indent="0">
              <a:buNone/>
              <a:tabLst>
                <a:tab algn="l" pos="0"/>
                <a:tab algn="l" pos="2925720"/>
                <a:tab algn="l" pos="5851440"/>
                <a:tab algn="l" pos="8777160"/>
              </a:tabLst>
              <a:defRPr b="0" lang="en-US" sz="4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72600" y="21661200"/>
            <a:ext cx="8686800" cy="158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Autofit/>
          </a:bodyPr>
          <a:lstStyle>
            <a:lvl1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  <a:defRPr b="0" lang="en-US" sz="4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659240" y="21661200"/>
            <a:ext cx="5715000" cy="158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Autofit/>
          </a:bodyPr>
          <a:lstStyle>
            <a:lvl1pPr indent="0" algn="r">
              <a:buNone/>
              <a:tabLst>
                <a:tab algn="l" pos="0"/>
                <a:tab algn="l" pos="2925720"/>
                <a:tab algn="l" pos="5851440"/>
                <a:tab algn="l" pos="8777160"/>
              </a:tabLst>
              <a:defRPr b="0" lang="en-US" sz="4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fld id="{4D67F686-CCA2-498C-B665-0C716DEF8FF9}" type="slidenum"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7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8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9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0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2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2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3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3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3.wmf"/><Relationship Id="rId5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7432000" cy="838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918600">
            <a:off x="2549160" y="7918200"/>
            <a:ext cx="6477120" cy="2590560"/>
          </a:xfrm>
          <a:prstGeom prst="flowChartTerminator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26200">
            <a:off x="17325720" y="19425960"/>
            <a:ext cx="7467480" cy="2138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043880" y="16535520"/>
          <a:ext cx="29847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43880" y="16535520"/>
                    <a:ext cx="29847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7907120" y="2971800"/>
          <a:ext cx="197316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07120" y="2971800"/>
                    <a:ext cx="19731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0269080" y="3124080"/>
          <a:ext cx="1973520" cy="22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269080" y="3124080"/>
                    <a:ext cx="19735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057400" y="14792400"/>
            <a:ext cx="6629400" cy="4257720"/>
          </a:xfrm>
          <a:custGeom>
            <a:avLst/>
            <a:gdLst/>
            <a:ahLst/>
            <a:rect l="l" t="t" r="r" b="b"/>
            <a:pathLst>
              <a:path w="1392" h="960">
                <a:moveTo>
                  <a:pt x="0" y="0"/>
                </a:moveTo>
                <a:lnTo>
                  <a:pt x="1392" y="0"/>
                </a:lnTo>
                <a:lnTo>
                  <a:pt x="1392" y="960"/>
                </a:lnTo>
                <a:lnTo>
                  <a:pt x="1200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5181480"/>
            <a:ext cx="0" cy="960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819520"/>
            <a:ext cx="2064996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0" y="2905200"/>
            <a:ext cx="0" cy="1030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3545440" y="12415320"/>
            <a:ext cx="16002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2944520"/>
            <a:ext cx="24460200" cy="9509040"/>
          </a:xfrm>
          <a:custGeom>
            <a:avLst/>
            <a:gdLst/>
            <a:ahLst/>
            <a:rect l="l" t="t" r="r" b="b"/>
            <a:pathLst>
              <a:path w="5136" h="1728">
                <a:moveTo>
                  <a:pt x="4752" y="336"/>
                </a:moveTo>
                <a:lnTo>
                  <a:pt x="5136" y="480"/>
                </a:lnTo>
                <a:lnTo>
                  <a:pt x="5136" y="1728"/>
                </a:lnTo>
                <a:lnTo>
                  <a:pt x="384" y="1728"/>
                </a:lnTo>
                <a:lnTo>
                  <a:pt x="384" y="864"/>
                </a:lnTo>
                <a:lnTo>
                  <a:pt x="0" y="864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10037880"/>
            <a:ext cx="8458200" cy="1057320"/>
          </a:xfrm>
          <a:custGeom>
            <a:avLst/>
            <a:gdLst/>
            <a:ahLst/>
            <a:rect l="l" t="t" r="r" b="b"/>
            <a:pathLst>
              <a:path w="1776" h="192">
                <a:moveTo>
                  <a:pt x="0" y="192"/>
                </a:moveTo>
                <a:lnTo>
                  <a:pt x="1776" y="192"/>
                </a:lnTo>
                <a:lnTo>
                  <a:pt x="16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0515600" y="2905200"/>
            <a:ext cx="4680" cy="634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515600" y="6867360"/>
            <a:ext cx="8229600" cy="2378160"/>
          </a:xfrm>
          <a:custGeom>
            <a:avLst/>
            <a:gdLst/>
            <a:ahLst/>
            <a:rect l="l" t="t" r="r" b="b"/>
            <a:pathLst>
              <a:path w="1728" h="432">
                <a:moveTo>
                  <a:pt x="0" y="432"/>
                </a:moveTo>
                <a:lnTo>
                  <a:pt x="1584" y="432"/>
                </a:lnTo>
                <a:lnTo>
                  <a:pt x="1728" y="192"/>
                </a:lnTo>
                <a:lnTo>
                  <a:pt x="15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31000" y="7132680"/>
            <a:ext cx="57150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0600" y="390600"/>
            <a:ext cx="16973640" cy="5294160"/>
          </a:xfrm>
          <a:custGeom>
            <a:avLst/>
            <a:gdLst/>
            <a:ahLst/>
            <a:rect l="l" t="t" r="r" b="b"/>
            <a:pathLst>
              <a:path w="3564" h="962">
                <a:moveTo>
                  <a:pt x="351" y="962"/>
                </a:moveTo>
                <a:cubicBezTo>
                  <a:pt x="250" y="942"/>
                  <a:pt x="161" y="913"/>
                  <a:pt x="85" y="840"/>
                </a:cubicBezTo>
                <a:cubicBezTo>
                  <a:pt x="64" y="820"/>
                  <a:pt x="52" y="812"/>
                  <a:pt x="40" y="784"/>
                </a:cubicBezTo>
                <a:cubicBezTo>
                  <a:pt x="31" y="763"/>
                  <a:pt x="18" y="718"/>
                  <a:pt x="18" y="718"/>
                </a:cubicBezTo>
                <a:cubicBezTo>
                  <a:pt x="22" y="594"/>
                  <a:pt x="0" y="400"/>
                  <a:pt x="74" y="273"/>
                </a:cubicBezTo>
                <a:cubicBezTo>
                  <a:pt x="148" y="145"/>
                  <a:pt x="410" y="90"/>
                  <a:pt x="540" y="85"/>
                </a:cubicBezTo>
                <a:cubicBezTo>
                  <a:pt x="729" y="78"/>
                  <a:pt x="918" y="78"/>
                  <a:pt x="1107" y="73"/>
                </a:cubicBezTo>
                <a:cubicBezTo>
                  <a:pt x="1207" y="70"/>
                  <a:pt x="1307" y="66"/>
                  <a:pt x="1407" y="62"/>
                </a:cubicBezTo>
                <a:cubicBezTo>
                  <a:pt x="1725" y="0"/>
                  <a:pt x="2221" y="45"/>
                  <a:pt x="2529" y="51"/>
                </a:cubicBezTo>
                <a:cubicBezTo>
                  <a:pt x="2720" y="98"/>
                  <a:pt x="3029" y="80"/>
                  <a:pt x="3207" y="85"/>
                </a:cubicBezTo>
                <a:cubicBezTo>
                  <a:pt x="3341" y="104"/>
                  <a:pt x="3237" y="81"/>
                  <a:pt x="3330" y="118"/>
                </a:cubicBezTo>
                <a:cubicBezTo>
                  <a:pt x="3352" y="127"/>
                  <a:pt x="3396" y="140"/>
                  <a:pt x="3396" y="140"/>
                </a:cubicBezTo>
                <a:cubicBezTo>
                  <a:pt x="3415" y="159"/>
                  <a:pt x="3431" y="180"/>
                  <a:pt x="3452" y="196"/>
                </a:cubicBezTo>
                <a:cubicBezTo>
                  <a:pt x="3465" y="206"/>
                  <a:pt x="3483" y="208"/>
                  <a:pt x="3496" y="218"/>
                </a:cubicBezTo>
                <a:cubicBezTo>
                  <a:pt x="3525" y="242"/>
                  <a:pt x="3540" y="294"/>
                  <a:pt x="3552" y="329"/>
                </a:cubicBezTo>
                <a:cubicBezTo>
                  <a:pt x="3548" y="370"/>
                  <a:pt x="3564" y="418"/>
                  <a:pt x="3541" y="451"/>
                </a:cubicBezTo>
                <a:cubicBezTo>
                  <a:pt x="3528" y="470"/>
                  <a:pt x="3496" y="444"/>
                  <a:pt x="3474" y="440"/>
                </a:cubicBezTo>
                <a:cubicBezTo>
                  <a:pt x="3430" y="431"/>
                  <a:pt x="3395" y="403"/>
                  <a:pt x="3352" y="396"/>
                </a:cubicBezTo>
                <a:cubicBezTo>
                  <a:pt x="3319" y="391"/>
                  <a:pt x="3285" y="389"/>
                  <a:pt x="3252" y="385"/>
                </a:cubicBezTo>
                <a:cubicBezTo>
                  <a:pt x="3064" y="394"/>
                  <a:pt x="2883" y="417"/>
                  <a:pt x="2696" y="429"/>
                </a:cubicBezTo>
                <a:cubicBezTo>
                  <a:pt x="2469" y="421"/>
                  <a:pt x="2255" y="399"/>
                  <a:pt x="2029" y="385"/>
                </a:cubicBezTo>
                <a:cubicBezTo>
                  <a:pt x="1738" y="391"/>
                  <a:pt x="1487" y="401"/>
                  <a:pt x="1207" y="429"/>
                </a:cubicBezTo>
                <a:cubicBezTo>
                  <a:pt x="1105" y="421"/>
                  <a:pt x="1018" y="397"/>
                  <a:pt x="918" y="385"/>
                </a:cubicBezTo>
                <a:cubicBezTo>
                  <a:pt x="708" y="309"/>
                  <a:pt x="698" y="365"/>
                  <a:pt x="318" y="373"/>
                </a:cubicBezTo>
                <a:cubicBezTo>
                  <a:pt x="274" y="389"/>
                  <a:pt x="255" y="412"/>
                  <a:pt x="229" y="451"/>
                </a:cubicBezTo>
                <a:cubicBezTo>
                  <a:pt x="197" y="548"/>
                  <a:pt x="196" y="652"/>
                  <a:pt x="229" y="751"/>
                </a:cubicBezTo>
                <a:cubicBezTo>
                  <a:pt x="241" y="788"/>
                  <a:pt x="307" y="840"/>
                  <a:pt x="307" y="840"/>
                </a:cubicBezTo>
                <a:cubicBezTo>
                  <a:pt x="314" y="863"/>
                  <a:pt x="332" y="943"/>
                  <a:pt x="351" y="962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716000" y="990720"/>
            <a:ext cx="12573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18900000" blurRad="0" rotWithShape="0">
                    <a:srgbClr val="ffff00"/>
                  </a:outerShdw>
                </a:effectLst>
                <a:latin typeface="Times New Roman"/>
              </a:rPr>
              <a:t>MI CAS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18900000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15849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458200" y="20345400"/>
          <a:ext cx="2133720" cy="200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58200" y="20345400"/>
                    <a:ext cx="213372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0802600" y="18668880"/>
          <a:ext cx="2762280" cy="267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802600" y="18668880"/>
                    <a:ext cx="27622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5069680" y="16382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0725920" y="163828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352680" y="7620120"/>
          <a:ext cx="5181840" cy="28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7620120"/>
                    <a:ext cx="518184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038480" y="19431000"/>
          <a:ext cx="2743200" cy="228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38480" y="19431000"/>
                    <a:ext cx="2743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8821520" y="4114800"/>
          <a:ext cx="2763720" cy="2914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821520" y="4114800"/>
                    <a:ext cx="27637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3469480" y="17373600"/>
          <a:ext cx="1533600" cy="3638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469480" y="17373600"/>
                    <a:ext cx="153360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572000" y="5791320"/>
            <a:ext cx="18288000" cy="121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666880" y="14859000"/>
          <a:ext cx="5970600" cy="3724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666880" y="14859000"/>
                    <a:ext cx="59706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0" y="762120"/>
          <a:ext cx="4241880" cy="4419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762120"/>
                    <a:ext cx="42418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343400" y="2895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5257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667880" y="14935320"/>
          <a:ext cx="6782040" cy="35416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667880" y="14935320"/>
                    <a:ext cx="678204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3088600" y="7238880"/>
          <a:ext cx="1989000" cy="2133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3088600" y="7238880"/>
                    <a:ext cx="198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3012280" y="3048120"/>
          <a:ext cx="2057400" cy="2050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012280" y="3048120"/>
                    <a:ext cx="205740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0591920" y="2819520"/>
          <a:ext cx="6645240" cy="6435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0591920" y="2819520"/>
                    <a:ext cx="6645240" cy="64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9735920" y="10744200"/>
          <a:ext cx="4572000" cy="43070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735920" y="10744200"/>
                    <a:ext cx="457200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543800" y="111250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29200" y="11201400"/>
          <a:ext cx="2468520" cy="20192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029200" y="11201400"/>
                    <a:ext cx="24685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971800" y="11201400"/>
          <a:ext cx="1430280" cy="22669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971800" y="11201400"/>
                    <a:ext cx="143028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705720" y="14859000"/>
          <a:ext cx="1852560" cy="987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705720" y="14859000"/>
                    <a:ext cx="18525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 flipH="1">
            <a:off x="19659240" y="16382880"/>
            <a:ext cx="106668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896480" y="18135720"/>
          <a:ext cx="2590920" cy="22590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0896480" y="18135720"/>
                    <a:ext cx="25909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580080" y="1828800"/>
          <a:ext cx="3770280" cy="5867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580080" y="1828800"/>
                    <a:ext cx="37702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838080" y="16992720"/>
          <a:ext cx="1524240" cy="6300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838080" y="16992720"/>
                    <a:ext cx="152424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3563720" y="21869280"/>
            <a:ext cx="6095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563720" y="20878920"/>
          <a:ext cx="1807920" cy="22096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3563720" y="20878920"/>
                    <a:ext cx="18079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7754480" y="20878920"/>
          <a:ext cx="1808280" cy="22096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17754480" y="20878920"/>
                    <a:ext cx="18082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5239880" y="22402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38080" y="11049120"/>
          <a:ext cx="1347840" cy="367812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38080" y="11049120"/>
                    <a:ext cx="1347840" cy="36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62120" y="3733920"/>
          <a:ext cx="1347840" cy="36781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62120" y="3733920"/>
                    <a:ext cx="1347840" cy="36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626080" y="533520"/>
          <a:ext cx="725400" cy="19810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626080" y="533520"/>
                    <a:ext cx="7254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496680" y="609480"/>
          <a:ext cx="725760" cy="19814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2496680" y="609480"/>
                    <a:ext cx="7257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H="1">
            <a:off x="6629400" y="1379232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125080" y="10363320"/>
            <a:ext cx="800100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2120" y="11049120"/>
            <a:ext cx="6019560" cy="1143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363320" y="14554080"/>
            <a:ext cx="7848360" cy="7772400"/>
          </a:xfrm>
          <a:custGeom>
            <a:avLst/>
            <a:gdLst/>
            <a:ahLst/>
            <a:rect l="l" t="t" r="r" b="b"/>
            <a:pathLst>
              <a:path w="4704" h="4896">
                <a:moveTo>
                  <a:pt x="240" y="4896"/>
                </a:moveTo>
                <a:lnTo>
                  <a:pt x="0" y="0"/>
                </a:lnTo>
                <a:lnTo>
                  <a:pt x="4704" y="96"/>
                </a:lnTo>
                <a:lnTo>
                  <a:pt x="4464" y="22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936320"/>
            <a:ext cx="27432000" cy="838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457200" cy="23774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974800" y="0"/>
            <a:ext cx="457200" cy="23774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21:54:54Z</dcterms:created>
  <dc:creator>ValeriaP</dc:creator>
  <dc:description/>
  <dc:language>en-US</dc:language>
  <cp:lastModifiedBy>Preferred Customer</cp:lastModifiedBy>
  <dcterms:modified xsi:type="dcterms:W3CDTF">2002-01-27T01:40:34Z</dcterms:modified>
  <cp:revision>11</cp:revision>
  <dc:subject/>
  <dc:title>No Slide Title</dc:title>
</cp:coreProperties>
</file>